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1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3A8-DDD3-4CF5-BEB6-1714CE23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EE7C-2CD2-4131-8C4C-C047A77B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617E-5548-4B11-85CD-203E45A1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198F-9A73-4E9C-836E-D0D8ABE2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250E-F1FC-4B45-8FC1-9EDB324B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901B-10FF-4679-AAAE-C18F92C4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2AED-15A6-4EEE-B7A0-7DB1EC61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E6D8-1A08-4E2A-A2CC-C907B5B2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4BB8-E534-49DE-8B4E-6F1614EA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AFA9-81B1-4974-B810-194042DD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113E-0C04-47AB-AD9F-41201199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2FE-C5CB-435A-BCE9-58922853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CCA8-C3CA-4EE3-BDDF-FE85131C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26DA-C22F-493F-B878-9E6E4705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C58B-027A-4D95-98DF-13BA9965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EC1D-C7D0-428A-B0CB-F4F91AA6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E8D5-A7D7-4305-8A40-95E9DAA2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94B39-AE5E-42F6-BBB1-05847BCB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A6AC1-CE75-4A2C-8770-A9744C1C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709C6-452C-476D-BAD9-70B5307A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455CB-4042-4FA6-AED2-81E539A1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B9F96-5D94-479B-A0F6-3210A289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B50-7169-473F-B935-C5482546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DAB7-C749-4705-A4CF-6FE4001F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63641-A5D4-4CE0-AF22-68D9D8B5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61088-C08C-4D6F-8FD6-448E0881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5A0AE-F13F-49B7-94B2-2F47DF13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3E92B-BD25-471C-91DB-786B4E60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26B1D-5225-495F-9C44-8B770B0E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3FF5E-2A0C-4A67-A392-73CCF4BE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84AB8-53E6-4C26-9A53-E62CDBBF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9753C-21B3-4010-ABF3-33CF4A67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D93DA-D62C-463C-B6BC-BD53F054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85D-F5AD-4A31-978D-07C41C93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0AF92-95E1-432B-BD32-748D639A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DCF02-C71B-40B4-A731-7B45F5F6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635F6-3C29-45DA-9BE3-5CFCC276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8CDB4-3170-43DA-B636-3B484248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0DE98-0136-4116-8A30-44C410DC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4D616-6A9C-4E9F-B784-161A8438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EE8B0-924D-495D-A164-F16255F4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1A370-F72A-402A-B1E2-A5669BC3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E9A13-5856-4745-9796-A8EC713A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D4F-5B1D-48AA-B759-EA8AFDC1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94C-34D0-4684-A42D-FF0EB96E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F84-39BC-4EC9-A507-511F9714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A89D-0640-44CB-898E-D17DEA14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E658-7956-4B16-9506-CFB35956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HN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HN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5AE4-3521-4CE9-BC5B-C9041431FAEF}" type="slidenum">
              <a:rPr b="0" lang="es-HN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HN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HN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7A40-69C0-47B1-A466-259565F609A8}" type="slidenum">
              <a:rPr b="0" lang="es-HN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HN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HN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A069-5323-40A1-B456-CFBD531C3495}" type="slidenum">
              <a:rPr b="0" lang="es-HN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HN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HN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3528-D734-4E6E-BCC6-0B8D6210A15E}" type="slidenum">
              <a:rPr b="0" lang="es-HN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23800" y="865080"/>
            <a:ext cx="851688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9640" y="3212640"/>
            <a:ext cx="78552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600" spc="-1" strike="noStrike">
                <a:solidFill>
                  <a:srgbClr val="ffffff"/>
                </a:solidFill>
                <a:latin typeface="Aharoni"/>
                <a:ea typeface="Aharoni"/>
              </a:rPr>
              <a:t>El tamaño de la gratitud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3 Rectángulo"/>
          <p:cNvSpPr/>
          <p:nvPr/>
        </p:nvSpPr>
        <p:spPr>
          <a:xfrm>
            <a:off x="2771640" y="5732640"/>
            <a:ext cx="36007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Aharoni"/>
                <a:ea typeface="Aharoni"/>
              </a:rPr>
              <a:t>DIVISIÓN INTERAMERIC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4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s-SV" sz="4000" spc="-1" strike="noStrike">
                <a:solidFill>
                  <a:srgbClr val="000000"/>
                </a:solidFill>
                <a:latin typeface="Constantia"/>
              </a:rPr>
              <a:t>Postrándose lo adoraron”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4000" spc="-1" strike="noStrike">
                <a:solidFill>
                  <a:srgbClr val="000000"/>
                </a:solidFill>
                <a:latin typeface="Constantia"/>
              </a:rPr>
              <a:t>(Vers. 11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s-SV" sz="2800" spc="-1" strike="noStrike">
                <a:solidFill>
                  <a:srgbClr val="000000"/>
                </a:solidFill>
                <a:latin typeface="Constantia"/>
              </a:rPr>
              <a:t>Abrieron sus cofres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s-SV" sz="2800" spc="-1" strike="noStrike">
                <a:solidFill>
                  <a:srgbClr val="000000"/>
                </a:solidFill>
                <a:latin typeface="Constantia"/>
              </a:rPr>
              <a:t>Y le presentaron como regalos oro, incienso y mirra”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000000"/>
                </a:solidFill>
                <a:latin typeface="Constantia"/>
              </a:rPr>
              <a:t>(Vers. 11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0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s-HN" sz="4000" spc="-1" strike="noStrike">
                <a:solidFill>
                  <a:srgbClr val="04617b"/>
                </a:solidFill>
                <a:latin typeface="Calibri"/>
              </a:rPr>
              <a:t>Si se siente gratitud y no se la expresa, es como envolver un regalo y no darlo”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Imagen 7" descr="http://easyquestion.net/thinkagain/wp-content/uploads/2007/11/425.jpg"/>
          <p:cNvPicPr/>
          <p:nvPr/>
        </p:nvPicPr>
        <p:blipFill>
          <a:blip r:embed="rId1"/>
          <a:stretch/>
        </p:blipFill>
        <p:spPr>
          <a:xfrm>
            <a:off x="2428920" y="1857240"/>
            <a:ext cx="42861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HN" sz="3600" spc="-1" strike="noStrike">
                <a:solidFill>
                  <a:srgbClr val="000000"/>
                </a:solidFill>
                <a:latin typeface="Constantia"/>
              </a:rPr>
              <a:t>La vida es un regalo de Dios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6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s-HN" sz="3600" spc="-1" strike="noStrike">
                <a:solidFill>
                  <a:srgbClr val="000000"/>
                </a:solidFill>
                <a:latin typeface="Constantia"/>
              </a:rPr>
              <a:t>Lo que hagamos con ella es nuestro regalo hacia él”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450720" y="1243080"/>
            <a:ext cx="8023320" cy="21160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solidFill>
            <a:srgbClr val="7cca62"/>
          </a:solidFill>
          <a:ln w="25560">
            <a:solidFill>
              <a:srgbClr val="599446"/>
            </a:solidFill>
            <a:miter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600" spc="-1" strike="noStrike">
                <a:solidFill>
                  <a:srgbClr val="ffffff"/>
                </a:solidFill>
                <a:latin typeface="Constantia"/>
              </a:rPr>
              <a:t>El regalo de una ex “pecadora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HN" sz="4000" spc="-1" strike="noStrike">
                <a:solidFill>
                  <a:srgbClr val="000000"/>
                </a:solidFill>
                <a:latin typeface="Constantia"/>
              </a:rPr>
              <a:t>Si ella ha amado mucho, es que sus muchos pecados le han sido perdonados”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200" spc="-1" strike="noStrike">
                <a:solidFill>
                  <a:srgbClr val="000000"/>
                </a:solidFill>
                <a:latin typeface="Constantia"/>
              </a:rPr>
              <a:t>(Lucas 7:47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6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s-HN" sz="3600" spc="-1" strike="noStrike">
                <a:solidFill>
                  <a:srgbClr val="04617b"/>
                </a:solidFill>
                <a:latin typeface="Calibri"/>
              </a:rPr>
              <a:t>La mujer más inspiradora del año 2003”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Imagen 10" descr="Linda Watson"/>
          <p:cNvPicPr/>
          <p:nvPr/>
        </p:nvPicPr>
        <p:blipFill>
          <a:blip r:embed="rId1"/>
          <a:stretch/>
        </p:blipFill>
        <p:spPr>
          <a:xfrm>
            <a:off x="2571840" y="1857240"/>
            <a:ext cx="40003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HN" sz="4000" spc="-1" strike="noStrike">
                <a:solidFill>
                  <a:srgbClr val="000000"/>
                </a:solidFill>
                <a:latin typeface="Constantia"/>
              </a:rPr>
              <a:t>¿Acaso no quedaron limpios los diez? –preguntó Jesús-. ¿Dónde están los otros nueve?”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600" spc="-1" strike="noStrike">
                <a:solidFill>
                  <a:srgbClr val="000000"/>
                </a:solidFill>
                <a:latin typeface="Constantia"/>
              </a:rPr>
              <a:t>(Lucas 17:17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HN" sz="4000" spc="-1" strike="noStrike">
                <a:solidFill>
                  <a:srgbClr val="000000"/>
                </a:solidFill>
                <a:latin typeface="Constantia"/>
              </a:rPr>
              <a:t>Uno de ellos, al verse ya sano, regresó alabando a Dios a grandes voces. Cayó rostro en tierra a los pies de Jesús y le dio las gracias”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200" spc="-1" strike="noStrike">
                <a:solidFill>
                  <a:srgbClr val="000000"/>
                </a:solidFill>
                <a:latin typeface="Constantia"/>
              </a:rPr>
              <a:t>(Lucas 17:15,16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5000" spc="-1" strike="noStrike">
                <a:solidFill>
                  <a:srgbClr val="04617b"/>
                </a:solidFill>
                <a:latin typeface="Calibri"/>
              </a:rPr>
              <a:t>LA LEPRA DEL PEC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Imagen 1" descr="http://4.bp.blogspot.com/_ONhUWJ0iPwY/SXykIvP36AI/AAAAAAAAAXM/b8RMBL6cy1c/s400/lepra400qxa6.jpg"/>
          <p:cNvPicPr/>
          <p:nvPr/>
        </p:nvPicPr>
        <p:blipFill>
          <a:blip r:embed="rId1"/>
          <a:stretch/>
        </p:blipFill>
        <p:spPr>
          <a:xfrm>
            <a:off x="857160" y="1285920"/>
            <a:ext cx="73580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HN" sz="3600" spc="-1" strike="noStrike">
                <a:solidFill>
                  <a:srgbClr val="000000"/>
                </a:solidFill>
                <a:latin typeface="Constantia"/>
              </a:rPr>
              <a:t>¿Acaso no quedaron limpios los diez? ¿Dónde están los otros nueve? ¿No hubo ninguno que regresara a dar gloria a Dios, excepto este extranjero?”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200" spc="-1" strike="noStrike">
                <a:solidFill>
                  <a:srgbClr val="000000"/>
                </a:solidFill>
                <a:latin typeface="Constantia"/>
              </a:rPr>
              <a:t>(Lucas 17:17,18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5000" spc="-1" strike="noStrike">
                <a:solidFill>
                  <a:srgbClr val="04617b"/>
                </a:solidFill>
                <a:latin typeface="Calibri"/>
              </a:rPr>
              <a:t>DOS GRANDES LEC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000" spc="-1" strike="noStrike">
                <a:solidFill>
                  <a:srgbClr val="000000"/>
                </a:solidFill>
                <a:latin typeface="Constantia"/>
              </a:rPr>
              <a:t>¿Por qué en la iglesia unos ofrendan y otros no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000" spc="-1" strike="noStrike">
                <a:solidFill>
                  <a:srgbClr val="000000"/>
                </a:solidFill>
                <a:latin typeface="Constantia"/>
              </a:rPr>
              <a:t>¿Cuál es la medida de nuestra gratitud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s-HN" sz="2800" spc="-1" strike="noStrike">
                <a:solidFill>
                  <a:srgbClr val="04617b"/>
                </a:solidFill>
                <a:latin typeface="Calibri"/>
              </a:rPr>
              <a:t>Lo importante de la gratitud es que no solo ayuda a los individuos sino a la sociedad en general. La gratitud es una virtud cívica”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288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50004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Imagen 4" descr="http://sitb-images.amazon.com/Qffs+v35lerWOPOIuY2s9AnLibCz/cTVdQVbM3PK1i2kF3xanQZDlhmyZ4b4Vi+TRurTnrzuZ7E="/>
          <p:cNvPicPr/>
          <p:nvPr/>
        </p:nvPicPr>
        <p:blipFill>
          <a:blip r:embed="rId1"/>
          <a:stretch/>
        </p:blipFill>
        <p:spPr>
          <a:xfrm>
            <a:off x="2714760" y="2000160"/>
            <a:ext cx="3643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450720" y="1322280"/>
            <a:ext cx="8023320" cy="2036880"/>
          </a:xfrm>
          <a:prstGeom prst="rect">
            <a:avLst/>
          </a:prstGeom>
          <a:ln w="0">
            <a:noFill/>
          </a:ln>
        </p:spPr>
      </p:pic>
      <p:grpSp>
        <p:nvGrpSpPr>
          <p:cNvPr id="213" name="Subtitle 2"/>
          <p:cNvGrpSpPr/>
          <p:nvPr/>
        </p:nvGrpSpPr>
        <p:grpSpPr>
          <a:xfrm>
            <a:off x="463680" y="3151080"/>
            <a:ext cx="8167680" cy="1938600"/>
            <a:chOff x="463680" y="3151080"/>
            <a:chExt cx="8167680" cy="1938600"/>
          </a:xfrm>
        </p:grpSpPr>
        <p:pic>
          <p:nvPicPr>
            <p:cNvPr id="214" name="Subtitle 2" descr=""/>
            <p:cNvPicPr/>
            <p:nvPr/>
          </p:nvPicPr>
          <p:blipFill>
            <a:blip r:embed="rId2"/>
            <a:stretch/>
          </p:blipFill>
          <p:spPr>
            <a:xfrm>
              <a:off x="463680" y="3151080"/>
              <a:ext cx="8167680" cy="19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533520" y="3228840"/>
              <a:ext cx="785484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36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HN" sz="2600" spc="-1" strike="noStrike">
                  <a:solidFill>
                    <a:srgbClr val="000000"/>
                  </a:solidFill>
                  <a:latin typeface="Constantia"/>
                </a:rPr>
                <a:t>Cuando queremos ser agradecido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HN" sz="4000" spc="-1" strike="noStrike">
                <a:solidFill>
                  <a:srgbClr val="000000"/>
                </a:solidFill>
                <a:latin typeface="Constantia"/>
              </a:rPr>
              <a:t>Abrieron sus cofres y le presentaron como regalos oro, incienso y mirra”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200" spc="-1" strike="noStrike">
                <a:solidFill>
                  <a:srgbClr val="000000"/>
                </a:solidFill>
                <a:latin typeface="Constantia"/>
              </a:rPr>
              <a:t>(Mateo 2:11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8:01:58Z</dcterms:created>
  <dc:creator>Javier Mejía</dc:creator>
  <dc:description/>
  <dc:language>en-US</dc:language>
  <cp:lastModifiedBy>Javier</cp:lastModifiedBy>
  <dcterms:modified xsi:type="dcterms:W3CDTF">2011-08-06T19:36:45Z</dcterms:modified>
  <cp:revision>25</cp:revision>
  <dc:subject/>
  <dc:title>UN DIEZMO DE GRATITUD</dc:title>
</cp:coreProperties>
</file>